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C26-23E9-4873-87D0-24B1ED04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965-FD69-4296-9909-5F17D312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CEC00-361C-4520-AB93-714D3BC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AC1A7-8207-4620-92F2-A1B4A0D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3FF9E-409C-4814-9F37-88A40FB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7794A-7B7D-4043-8523-7121693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C72D4-2663-461F-A0F7-18D8FA2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F98FA-1906-4BA9-9F65-6A967427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9D686-B88D-4E13-AC3C-714BF46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B825-8288-41EE-95FB-49AE6CD1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98506-43E7-444F-9D4B-138471CD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69644-88A8-41F0-BF16-B6572046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7AB-27AB-4AE9-A1DF-735E5EAD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A23B0-E1ED-4DCC-90D3-C2B78996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1F50D-C292-41BE-BB78-1EBC358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C6B41-CEEF-4AA3-AAA7-2040302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4AB84-065B-4BD2-8F28-E3E5A4F4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56E5C-66E8-4B1B-B54B-222C2604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8FE7C-8719-4B88-9147-A8F5A6E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46115-FCB3-4079-BBB2-AB05973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ED46-ACF1-4AE6-B5B7-A6F6F77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460FC-EA85-476E-8FE3-C6EBCDC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2D993-B091-4D6E-8DD7-E23B759F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D40-6C55-4FEC-9F83-C7AA422D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B634-BC28-4A0F-8E69-BC6AE80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5A41-3275-4146-BA19-5EB31C06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0A46-22B5-4ADD-9256-2C5407D7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BE31-3718-468B-A9A9-795C860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2742-7450-4ADA-BA35-2EF961BE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A6B-5C72-4046-898B-DFF7304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C7E3-D870-4456-8CE2-016CFF19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2497-2D19-41E4-B6DD-390696B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49A-BAF0-4FBE-8C40-6C64108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D9F5-3F72-42DB-AB45-227FE04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D48-5312-457F-A2D3-1CCD3F22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DDD0-6637-485B-B445-F64F439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54AB-EAD7-4988-8D7C-298D9621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1BD8-BB6F-4285-B2F3-24EB5348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E5D8-706C-4009-8A33-565542E0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E9F9-C08A-4BE1-947A-867BA0AF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9CEA-C180-4726-A429-D793613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6607-5D51-4566-B0FB-77ED472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B8A2-FBB2-41B8-80E7-08A3A59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9BD-0C88-4562-9603-4B565B76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D098-EC47-48A7-82FE-2DD66D79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A940-ACD5-4CF4-A849-5924E46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26E7-5909-4C1A-8141-5A7E7919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ACBA-BA6B-4E2D-8DC5-DDB4ABC7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4C72-1415-42F7-9530-4B399AE9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7D13-18D5-4C3E-B2A5-C13CE2D1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FD98-EC0A-49BA-8372-F432B598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B58C-A3CD-4315-A799-8CB36EA1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D4BE-16C4-4783-A7C0-514D5DD2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C77B-21D6-407F-9EFF-DA9E193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459-F6F2-43B9-BDBA-4CBF60D2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DB64-324B-4CB9-8796-F36C21E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A8CE-6BAB-45A8-B3D6-0E5CB71B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4EA1-BC22-4A31-BAC2-50FC6D9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72D01-8F59-4364-A870-F438E88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5DB3-2DDE-4BD6-9C44-74BBECE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748B-2F9C-4C35-80DA-BB440AF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4223-CB68-4877-915A-86F1D324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A47A-3334-4810-AA21-5E279D08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D8AF-94F8-41DE-A3E7-7BD80E0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147E-FEC6-417E-B31E-2F826A8F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58F-2108-4C21-9185-17A1D2E6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B587-BCA6-4A71-A732-EE82F7A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5CF3-096F-495D-BB30-7146299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CB07-2F85-4588-AD74-20CE0C1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C848-7194-4BB7-90C2-884B2F4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7E8D-FBEC-4683-886C-FE5FADB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47C8-6BBE-4E92-879B-B6BC5E12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B2F3F-A1F5-4B4B-8BD3-424C94B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9A0E-5D89-4E97-AF9D-982ACD0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0E549-C335-4C9C-85AB-2FB4713D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D346-1CE9-4FE4-927C-C368FBE4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0F6-1531-4239-823B-1719170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012F-F79C-46EF-ABFC-C359AD71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1A59-7DA0-4E23-AA58-5043B780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ADE3-0432-460E-B1CC-804CF74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B47E-B13E-4486-9AAE-004F3F20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21319-F2D2-4434-B9B7-6D22E6E1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4AC0-47E1-41FD-9CEF-4AC9A14A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C389B-D8FE-4550-AEE2-B224F78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E3FE6-FDAA-402D-953E-CBDD35D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055D-AC68-4EC5-8789-CE5922F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35C6A-6DD8-4C6C-B4B5-D0D361C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EDB-6224-4E7B-A685-4B0BA88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7D43-07E3-4D4E-BACA-67089812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254FA-BE83-4AD4-B5DC-DA0710B9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7472-BAE8-41AF-9E60-D02EFD79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2D39-768A-4650-B9AC-10D9EE4A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EB235-27DF-4E5E-A580-CB332028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CD46-8190-40D9-871B-0814D62D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8EF1-A71D-4EEC-84BC-1C348A4B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5BE2-98C6-423C-953F-C4F58A74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FFB3-2A50-4246-B0A6-B6E5F038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9859-1B0A-4E9D-BF4C-08FDA945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072-0836-4287-BE35-0344FCE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02322-7D21-4DBA-B541-7FB2157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7ECE5-4C8B-459D-8D0E-E5A34A0C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CCFF-C87C-4368-8071-A9C4B85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402B-C73E-4C5F-B80B-3CECF776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4593-D188-450E-A8B3-0D24235D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9124-EDFD-46EA-8105-F3B054C0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5ACA-B798-404D-8BD5-0D3BE59F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340E6-EE53-4808-9C3B-44ACC7A9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DE122-9970-4B2C-9278-411870E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5D40-562D-4AE0-9AB3-B531A44B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6CC-6CA6-4509-8A29-CFAFCD0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451D-5F59-4440-9841-09B717BB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8CC5A-06C7-463D-B8A3-DAE1DBE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C012-061A-4E46-BD62-6F1221C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1F654-C5E1-418C-AB06-D88DCF3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BFF4E-C55E-4D8A-9663-E8E274EB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475A-5AC8-4714-815E-6606A0C8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9221C-E3FC-46EF-A814-87D31E3D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85479-5AB0-4D3D-A095-63EF551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86061-B0B9-4610-B2D8-76BF19DC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C5107-F783-4485-86C3-85DE9D99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886-990F-48A8-8A44-24FB5FE20E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25C1-913E-4856-971B-6F27F81ED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FE9B-C6DF-4CD3-9C61-11B254F56C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BCB-0C12-4875-A5EE-1AA56328D3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522-1BED-4853-B47E-6EA150A802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C9EA-FADB-4A30-A057-ECF8C070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A4B0-7E99-4F7C-B6B8-AB0112FB1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1D8-2D3E-4DA6-B246-D584BC64BA0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565E-7D7C-4B60-A281-AE8875D0645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79A-0CF0-4F43-9D6C-0364BEF0A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23isback.com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3f2d9"/>
                </a:solidFill>
                <a:latin typeface="Arial"/>
              </a:rPr>
              <a:t>Steve Broussard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da"/>
                </a:solidFill>
                <a:latin typeface="Verdana"/>
              </a:rPr>
              <a:t>All About M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Times New Roman"/>
              </a:rPr>
              <a:t>What I’m good 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pp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d on the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ting Mo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Web Sit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theshoegam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23isba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nicekick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049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avorite F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Stak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ke Pota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s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Favorite Teachers are…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We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Rich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J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f I could I would…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32Z</dcterms:created>
  <dc:creator>004student</dc:creator>
  <dc:description/>
  <dc:language>en-US</dc:language>
  <cp:lastModifiedBy>004student</cp:lastModifiedBy>
  <dcterms:modified xsi:type="dcterms:W3CDTF">2008-10-23T15:57:21Z</dcterms:modified>
  <cp:revision>4</cp:revision>
  <dc:subject/>
  <dc:title>Steve Broussard</dc:title>
</cp:coreProperties>
</file>